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408-5CDD-434B-B4F1-6F95E524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D1C-EE4D-478D-95D5-FA666C69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C2F-FE9B-45F0-9F2F-55561FBC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8D8-DBA5-43A6-9BFF-55084157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4D16-B1AC-4A6F-834F-D670B871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16E3-B138-47C9-9907-8B05C278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942-D2D3-4036-A365-8EA132F9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98E0-B381-4079-BA8D-0910D4B4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7F9A-C767-42BA-8047-A3435F7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E1AD-A7C9-4996-80B5-9DB519F4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52DF-6902-40A8-888C-A8A469D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679-15E3-4FCB-8767-DFAEB29B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625F-FAC2-4821-B9B8-38CFD2E7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5B3B-CBF4-4BA0-91D9-26D84A6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6C6E-E05F-4A9A-99B6-D2DE1AB8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AD1-BD28-4C43-9C28-E8389455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70C5-1414-411E-B5BF-C4D00A44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DB0-EB82-432D-955B-C085CD7A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BED-7988-436B-8E38-868611CE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7F9-5080-47A0-9CB6-003A0C9D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0A8-03EA-4150-8686-107FD9DF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383-71B4-4A13-A14B-655FFEA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48A-6255-4814-8825-ACC82DBA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81C-49A8-4423-83E3-41714EF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B075-B7B6-4B06-8A1F-1B090B58D1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56BF-E337-4C11-ADED-02CBA67BF5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7238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МЕРЕ ЗДРАВЉА И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опа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1 сат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сат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20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 стопа з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итаво подручје или читаву држ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изложености сваког појединца није могуће израчу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именилац се узима популација средином посматраног периода која верно одражава број особа-година посмат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*у групи од 10 људи умрле су 4 особе током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ја умрлих 4/10=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4              4    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______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sr-CS" sz="1600" spc="-1" strike="noStrike" baseline="50000">
                <a:solidFill>
                  <a:srgbClr val="000000"/>
                </a:solidFill>
                <a:latin typeface="Arial"/>
              </a:rPr>
              <a:t>  __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=  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6х1+4х1/2      6+2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3920" y="586692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умрлих по години посматрања (500                                      умрлих на 1000 особа-година посматрањ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ЦИДЕНЦИЈА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опом инциденције исказује се одн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Броја новонасталих догађаја (оболевања, повређивања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Збира особа-времена изложености, односно процењеног броја становника средином посматраног периода као прихватљиве апрокс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новонас. догађ.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жава однос укупног броја постојећих догађаја (оболевања, повређивања) у једној тачки времена (обично један дан) и броја становника у истој временској та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бог временске ограничености назива се и тачком превален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догађ. (порем. здравља) у једн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=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____________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 у т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валенција је пропорција (број патолошким стањем захваћених становника дели се са укупним бројем становника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нимак ситуације у једном момен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 изражава ризик оболевања јер је условљена дужином трајања болести (дуготрајни поремећаји здравља могу да имају вишу преваленцију од краткотрајних,без обзира на евентуално нижу  инциденцију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П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да су Р и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билне током времена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 између њих постоји следећи одн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дужина трајања болести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У популацији од 100000 становника годишња инциденција поремећаја здравља је 5 на 100000, просечно трајање болести 2 г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Р=5/100000 х 2=10/10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А МОРТАЛИТЕТА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(M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дентична стопи инциденције при чему је новонастали догађај – смртни ис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умрлих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2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дикатор јавно –здравственог значаја одређено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ЛЕТАЛИТЕТ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Lt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роватноћа да се нека болест или повреда заврши фатал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. умр. услед одређеног поремећаја здрављ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2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. оболелих од истог порем. здрав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порција која се увек изражава у процентима (од 0%-некомпликован назеб до 100%-беснил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азује на ризик умирања оболелих осо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казатељ је тежине саме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ПШТИМ  СТОПАМА изражавам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између укупног броја оболелих (повређених умрлих)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збира свих особа-година посматрања (броја свих становника средином периода посмат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РС 1994. г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умрлих у РС током 1994.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становника РС 30.06.1994.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већини земаља света је 5-10/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граничене су на један пол, једну узрасну групу и/или један узрок оболевања (уми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пецифичне стопе по полу, узрасту и по узор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од рака плућа жена узраста 45-54 год. у Србији током једне го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р. ж- узр. 45-54 г. умрлих од рака пл. у Србији те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 1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ж. попул. узраста 45-54 г. у Србији 30. јуна исте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3520" y="360360"/>
            <a:ext cx="46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ЧНЕ СТО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ОДНО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едност добијена када се једна величина подели другом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илац (номинатор) и именилац (деноминатор) су две посебне величине од којих ниједна није садржана у друго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нос полова=бр. мушкараца/бр. ж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 упоређивање популација које имају различиту узрасну (или неку другу) структу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случају игнорисања ових разлика настају греш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умирања по узрасним групама у два нас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2057400"/>
          <a:ext cx="8305920" cy="4192560"/>
        </p:xfrm>
        <a:graphic>
          <a:graphicData uri="http://schemas.openxmlformats.org/drawingml/2006/table">
            <a:tbl>
              <a:tblPr/>
              <a:tblGrid>
                <a:gridCol w="1662120"/>
                <a:gridCol w="1662120"/>
                <a:gridCol w="1657440"/>
                <a:gridCol w="1662120"/>
                <a:gridCol w="1662120"/>
              </a:tblGrid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стан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на 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рал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б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зрасно специфичне стопе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идентич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Опште стопе различите, воде погрешном закључку (у средини са много старачких домаћинстава, без обзира на услове живота, умирање је чешће него у млађој популациј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ПРЕВАЗИЛАЖЕЊЕ ПРОБЛЕМ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-45720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граничавањем посматрања на исте узрасне групе (поређење одојчади са одојчадима, старих са старима ит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-45720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андардизација-други начин да се здравствено стање (оболевање, умирање) у две или више популационих група учини упоредиви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андардизована стопа је фиктивна величина која би постојала када се (узрасна или друга) структура популација које се пореде међусобно не би разликов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РИЗИ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*) Од 100 станара старачког дома током године умре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ра вероватноће јављања неког догађ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ава 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порцијом (бројилац је део именио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изик (вероватноћа) умирања 20/100=0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то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 предпоставком да се умирало равномерно током године, стопа умирања 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_____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0,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00-(20:2)      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ОКАЗАТЕЉИ  РИЗ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псолут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жени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 јављањ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 догађаја (болести, повреде, смрти) у посматраној популацији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0/100=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латив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зика међу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оженим и неизложеним особ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изложених /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неизлож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трибутивни ризик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ризика међу изложеним и неизложеним особ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изложених 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 неизлож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ПОКАЗАТЕЉИ  РИЗИКА</a:t>
            </a:r>
            <a:br>
              <a:rPr sz="2400"/>
            </a:b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мирање у јединици ангажованој на чишћењу минских поља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38862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*) ризик (пропорција) умирања или кумулативна инциденција ум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псолут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1,3 за целу поп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,5 и 0,5 за две одговарајућ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трибутив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1,5-0,5=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лативни риз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1,5/0,5=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1219320"/>
          <a:ext cx="7924680" cy="247644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пос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ангажовани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(%)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 на терен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ст. Подршка (кувари, возачи,.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ОПОР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ста односа у којој је бројилац укључен у именилац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a+b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 однос дела према цел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порција м. у колективу=бр.м / бр.м+бр.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ДЕК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казатељ настао посматрањем две или више променљивих величина (сажети показате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зражен ка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декс телесне масе = тежина/висина</a:t>
            </a:r>
            <a:r>
              <a:rPr b="0" lang="sr-C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зражен као зби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пгаров скор =збир одабраних знакова              животности новорођенч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свођење различитих знакова                                                                                            животности на један сумарни показате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54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/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- временски континуиран проц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- вр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просечну брзину неког континуалног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а промене једне количине по јединици друге количине од које зав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Е у епидемиологији и медици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нос у коме је време елеменат имениоца и у коме постоји посебна веза између бројиоца и именио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жавају брзину јављања односно кретања неке појаве (рађања, оболевања, ширења инфекције, умирања) у јединици врем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ројила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збир посматраних појава (укупан број умрлих од неке боле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енила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збир периода током којих је сваки испитаник био праћен (особе-време; збир времена посматрања; ризику изложена попула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 узима у обзир разлику између испитаника праћених све време и оних који су посматрану популацију напустили из различитих разлога ( пресељење, смрт ит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ТОПЕ у епидемиологији и медицин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Карактеристике 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38224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аве сто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Стопа рађања (бр. новорођених на 1000 становника током годин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Стоп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(“густина инциденције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- Стоп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Mt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(“сила морталитета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опорције традиционално назване стоп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валенција (“стопа” превал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умулативна инциденција (“стопа” кумулативне инцид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Леталитет (“стопа” леталите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рачунавање стопа з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колектив (малу груп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енилац је збир трајања изложености сваког поједи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сваког испитаника израчунати време изложе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0 лекара превентиваца, предавање трајало 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 од легионелозе оболело 6 уч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порција оболелих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b, CI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“стопа” јављ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6/20</a:t>
            </a:r>
            <a:r>
              <a:rPr b="0" lang="sr-Latn-CS" sz="2600" spc="-1" strike="noStrike" baseline="-20000">
                <a:solidFill>
                  <a:srgbClr val="000000"/>
                </a:solidFill>
                <a:latin typeface="Arial"/>
              </a:rPr>
              <a:t>h+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=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0=20%   Разлика између две пропорциј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4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40=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0%   Мања отпорност епидемиолог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09-18T08:46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