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E4BE-49EC-4F7B-ACF4-24D0F383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AD20-59AD-4E14-AE0F-FA67FFC9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3D57-42D7-4721-96D5-BEB569C5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4929-9642-4168-A630-9C583929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6A1-03A8-4639-B56D-58E032E3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B97-8F86-4E66-8717-8658E27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26AF-2AA2-4B5A-AFEE-1A7DFD78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B25-0FB2-4523-ADE6-E52137E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9A86-6758-446A-9E49-C8B665B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35B5-C551-4966-917C-A2B4BA1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EE4-9F8C-4568-A5A4-E2775DDA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F8EA-0195-4B25-8498-D469E50D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FFF-2795-4DF8-AD6E-714F8AAA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CB40-6B80-4536-B758-5792D0D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43D4-1FC3-42FF-9F51-71BC2F49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F26C-00B3-458F-859A-06E7C975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8CDD-C49E-4312-9641-495369F2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7E16-EB69-4209-9FC3-4547C055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851F-A059-433B-94F9-450FE568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C5AB-DD59-4F28-816D-C91C5302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CC7D-D78E-4578-A640-094F0CDD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256F-EC65-4C00-AE73-29055FA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C51A-6434-44C3-9E33-67ADF4C6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D115-2E8B-47F0-9A7F-5199EA6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045D-A181-4C47-B694-B925A69F5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1673-28C2-45E6-8988-6271EC000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ff"/>
                </a:solidFill>
                <a:latin typeface="Arial"/>
              </a:rPr>
              <a:t>ОСНОВНИ ПОЈМОВИ И ДЕФИНИ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64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ДИЦИНСКИ ФАКУЛТЕТ КРАГУЈЕВ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АДИ ОСТВАРИВАЊА ЦИЉЕ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755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Експеримента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1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Дескриптивн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Оруђе за прикупљање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сагледавање и </a:t>
            </a:r>
            <a:r>
              <a:rPr b="0" lang="en-U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интерпретацију епидемиолошких података</a:t>
            </a:r>
            <a:r>
              <a:rPr b="0" lang="sr-Latn-CS" sz="3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 педантне дескрип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ис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истиче хипотеза (Х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могућем узро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пажене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стрибу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фрек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 СТРАТЕГИЈА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ЛИТ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утицају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ка на појаву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–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очава разлик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 две групе испитани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D(E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i D* (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*)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сервацион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 Cirilica"/>
              </a:rPr>
              <a:t>МЕТОДЕ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СТРАТЕГИЈА ЕПИДЕМИОЛОГ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 ОСТВАРИВАЊА ЦИЉЕВА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? 3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КСПЕРИМЕНТ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300" spc="-1" strike="noStrike">
                <a:solidFill>
                  <a:srgbClr val="000000"/>
                </a:solidFill>
                <a:latin typeface="Arial Cirilica"/>
              </a:rPr>
              <a:t>Везана за епидемиолошка истраживањ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постављену хипотез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ални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ивање 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еђене мер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кцин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луоризаци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одир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здравље људ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ступ јединствен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за све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ремећаје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стирање хипотезе о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везаности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узрока</a:t>
            </a:r>
            <a:r>
              <a:rPr b="1" lang="en-US" sz="4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оболе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42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ђе се 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у питању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аразне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сто није применљ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поузданији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пчан са низом у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b)</a:t>
            </a:r>
            <a:r>
              <a:rPr b="0" lang="sr-Latn-CS" sz="1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тичк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г приступ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тиолошким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питивањ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базира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опсерв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сервацијом процењујемо допринос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ипови сту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 засноване на посматрању (опсервационе)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бухватају примен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дескриптивне мет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аналитичке мет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(ИНТЕРВЕНТНЕ)</a:t>
            </a: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ОПИСУ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072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ремећаја здрављ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у односу н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рактеристике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особа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време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"/>
              </a:rPr>
              <a:t>место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настанка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ДЕСКРИПТИВНЕ СТУДИЈЕ траже одговор на следећа пи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лева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ација оболелих у простору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нализа одговора на питањ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KO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, ГДЕ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одговор на питањ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ЗАШТ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дошло до појаве 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СКРИПТИВНЕ СТУДИЈЕ</a:t>
            </a:r>
            <a:r>
              <a:rPr b="0" lang="sr-Latn-CS" sz="4800" spc="-1" strike="noStrike">
                <a:solidFill>
                  <a:srgbClr val="000000"/>
                </a:solidFill>
                <a:latin typeface="Arial Cirilica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поз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болести није позната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ДЕФИНИЦИЈА ЕПИДЕМИОЛОГИЈЕ</a:t>
            </a:r>
            <a:r>
              <a:rPr b="0" lang="sr-Latn-CS" sz="44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наука која се бав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Испитивањем</a:t>
            </a:r>
            <a:r>
              <a:rPr b="0" lang="sr-Latn-CS" sz="2400" spc="-1" strike="noStrike">
                <a:solidFill>
                  <a:srgbClr val="9999ff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трибуције и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терминанти ст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догађа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заних са здравље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некој популацији 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 Cirilica"/>
                <a:ea typeface="Arial"/>
              </a:rPr>
              <a:t>►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риме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зултата тих 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контроли здравствених пробле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Дефиницијом обухваћени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држај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циљ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пидемиолошких истраж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Студије случајеви - контроле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9999ff"/>
                </a:solidFill>
                <a:latin typeface="Arial"/>
              </a:rPr>
              <a:t>Кохортне студиј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АНАЛИТИЧКЕ СТУДИЈЕ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Студија случајеви - 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se-control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study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поставље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з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Оболели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(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лучајев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и     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контрол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дносу на учесталос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актор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период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је претходи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 Cirilica"/>
              </a:rPr>
              <a:t>АНАЛИТИЧКЕ СТУДИЈЕ 3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хортне студ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поставље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последиц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 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тети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чном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у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изложен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ређују с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днос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а здрављ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еном периоду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УШТИНА АНАЛИТИЧКЕ СТУДИЈ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очавање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РАЗЛИК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змеђу две групе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групе особа које су или </a:t>
            </a:r>
            <a:r>
              <a:rPr b="0" lang="sr-CS" sz="3200" spc="-1" strike="noStrike">
                <a:solidFill>
                  <a:srgbClr val="ff0000"/>
                </a:solidFill>
                <a:latin typeface="Arial Cirilica"/>
              </a:rPr>
              <a:t>оболел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ли </a:t>
            </a:r>
            <a:r>
              <a:rPr b="0" lang="sr-CS" sz="3200" spc="-1" strike="noStrike">
                <a:solidFill>
                  <a:srgbClr val="ff99ff"/>
                </a:solidFill>
                <a:latin typeface="Arial Cirilica"/>
              </a:rPr>
              <a:t>изложени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дејству неког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- одговарајућ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контролне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групе (необолели, неизложе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820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Х: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намнестичка студиј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20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а са коронарн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шћ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еви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400 особ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коронарн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мај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трол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свих испитаник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жит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датк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о пушачким навика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■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у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контролн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пореди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 односу н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 пуше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ећи % пушача</a:t>
            </a:r>
            <a:r>
              <a:rPr b="1" lang="en-US" sz="28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у групи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 у прилог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еној хипот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589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Тестирање хипотезе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Х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)?</a:t>
            </a:r>
            <a:br>
              <a:rPr sz="28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36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0" lang="sr-Latn-C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и веза између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ушењ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 корон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хортна студ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а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група не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не у дуже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 Cirilica"/>
                <a:ea typeface="Arial"/>
              </a:rPr>
              <a:t>■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оболе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 коронар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ћи % оболелих у групи пушач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 у прилог постављеној хипоте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6436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Потврда хипоте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не аналитичким студиј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sr-CS" sz="2400" spc="-1" strike="noStrike">
                <a:solidFill>
                  <a:srgbClr val="9999ff"/>
                </a:solidFill>
                <a:latin typeface="Arial"/>
              </a:rPr>
              <a:t>контролом истраживач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интервен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или виш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ЕКСПЕРИМЕНТАЛН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7d"/>
                </a:solidFill>
                <a:latin typeface="Arial"/>
              </a:rPr>
              <a:t>ЦИЉ</a:t>
            </a:r>
            <a:r>
              <a:rPr b="1" lang="sr-Latn-CS" sz="2000" spc="-1" strike="noStrike">
                <a:solidFill>
                  <a:srgbClr val="00007d"/>
                </a:solidFill>
                <a:latin typeface="Arial Cirilic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ефекат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 етичких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ога није могуће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99ff"/>
                </a:solidFill>
                <a:latin typeface="Arial"/>
              </a:rPr>
              <a:t>Индиректно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питив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-последичн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зе између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г фактор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иминисање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етичног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ог 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 Cirilica"/>
              </a:rPr>
              <a:t>-могу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испитивање ефикасност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их средстава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поступака и</a:t>
            </a:r>
            <a:r>
              <a:rPr b="0" lang="en-US" sz="2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тивних 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Latn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Клинички аспек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ствено стање популације ОД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9999ff"/>
                </a:solidFill>
                <a:latin typeface="Arial"/>
              </a:rPr>
              <a:t>Епидемиолошки а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тн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фактор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де до 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е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угрозе осетљиве особ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туација с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цењује НЕПОВОЉ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Једна од карактеристика која епидемиологију разликује од клиничк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7d"/>
                </a:solidFill>
                <a:latin typeface="Arial Cirilica"/>
              </a:rPr>
              <a:t>ЕПИДЕМИЈА</a:t>
            </a:r>
            <a:r>
              <a:rPr b="1" lang="sr-Latn-C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epi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; </a:t>
            </a:r>
            <a:r>
              <a:rPr b="0" i="1" lang="en-US" sz="3600" spc="-1" strike="noStrike">
                <a:solidFill>
                  <a:srgbClr val="000000"/>
                </a:solidFill>
                <a:latin typeface="Times YU"/>
              </a:rPr>
              <a:t>demos</a:t>
            </a:r>
            <a:r>
              <a:rPr b="0" i="1" lang="en-US" sz="3600" spc="-1" strike="noStrike">
                <a:solidFill>
                  <a:srgbClr val="000000"/>
                </a:solidFill>
                <a:latin typeface="Times Cirilica"/>
              </a:rPr>
              <a:t> =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народ</a:t>
            </a:r>
            <a:r>
              <a:rPr b="0" lang="en-US" sz="3600" spc="-1" strike="noStrike">
                <a:solidFill>
                  <a:srgbClr val="000000"/>
                </a:solidFill>
                <a:latin typeface="Times Cirilica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јава болест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или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другог догађаја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везаног за здравље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(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нпр. пушења</a:t>
            </a:r>
            <a:r>
              <a:rPr b="0" lang="sr-Latn-CS" sz="3200" spc="-1" strike="noStrike">
                <a:solidFill>
                  <a:srgbClr val="00007d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броју који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превазилази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њихову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00007d"/>
                </a:solidFill>
                <a:uFillTx/>
                <a:latin typeface="Arial Cirilica"/>
              </a:rPr>
              <a:t>уобичајену учесталост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у одређеној</a:t>
            </a:r>
            <a:r>
              <a:rPr b="0" lang="en-US" sz="3200" spc="-1" strike="noStrike">
                <a:solidFill>
                  <a:srgbClr val="00007d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7d"/>
                </a:solidFill>
                <a:latin typeface="Arial Cirilica"/>
              </a:rPr>
              <a:t>популацији (важећа дефиниц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723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 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960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.–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Међународни симпозијум у Пра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Епидемиологија је самостал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грана медицинске наук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е бав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зучавањем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 појаве и ширења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зараз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у људском друштв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примењујући стечена зн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за превенц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узбијање и контролу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ликвидацију ових болести.</a:t>
            </a:r>
            <a:r>
              <a:rPr b="0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836640"/>
            <a:ext cx="828036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irilica"/>
              </a:rPr>
              <a:t>Карактеристике епидем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Б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ле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заразна (трауматиз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Ciril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псолутни број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оболел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бити велики (он је 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неуобичајен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у односу на популацију и времен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Arial Cirilica"/>
              </a:rPr>
              <a:t>ораст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број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Cirilic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 Cirilica"/>
              </a:rPr>
              <a:t> мора настати нагло, у кратком интервалу (епидемија рака плућа траје 50 година и није достигла врхуна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АНДЕМИЈ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p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ирење епидемиј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громна пространст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угрожавање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пулације више континенат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тензивност јављ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ип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ндем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S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(интерепидемијски пери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њени услов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постојећем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у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 број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бјашњење законитос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доводе д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пидемије неопходно је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матрати учесталост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 у  времену и 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међуепидемијском пери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9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Настанак епидемије (интерепидемијски пери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 степена учестало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ести ко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тходе епидем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д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радич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суство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ЕНДЕМИЈ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тално присуство 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граничена простор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али не и временск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Ендемска боле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све које су аутохто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омаће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еђу становници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дређеног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 Cirilica"/>
              </a:rPr>
              <a:t>СПОРАДИЧНОСТ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Појава појединачних случајева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која није аутох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На територи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нета са неког 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кдемск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егзотичн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же било када да се импорт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Епидемија вариоле н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Кос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1972.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17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оболе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35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умрл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*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болести незаразне етиологи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могу да се јаве спорад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ДСУСТВО БОЛЕ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јава болести на подручју где је раније није било - разлика у односу на спорадично јављање 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99ff"/>
                </a:solidFill>
                <a:latin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импортованих резерво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суство болести усле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дсуства агенса у спољашњ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генси присутни али патогени ефекат није испољ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остала изложеност осетљи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ременске и просторне одлике масовних поремећаја здрављ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2060640"/>
          <a:ext cx="8245440" cy="4102200"/>
        </p:xfrm>
        <a:graphic>
          <a:graphicData uri="http://schemas.openxmlformats.org/drawingml/2006/table">
            <a:tbl>
              <a:tblPr/>
              <a:tblGrid>
                <a:gridCol w="1819080"/>
                <a:gridCol w="1170000"/>
                <a:gridCol w="2376360"/>
                <a:gridCol w="288000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Временско ограничењ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росторно огранич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Е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Пандем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СПОРАДИЧ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утори са запад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or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u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ширу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тале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МАСОВ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 патолошка ст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граничавајућ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само н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ективн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дмет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зучавањ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В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поремећа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то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се јавља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 масовна појава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 не и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њихову етиологију</a:t>
            </a:r>
            <a:r>
              <a:rPr b="0" lang="en-US" sz="3200" spc="-1" strike="noStrike">
                <a:solidFill>
                  <a:srgbClr val="000000"/>
                </a:solidFill>
                <a:latin typeface="Arial Cirilic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ктуелна дефини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ологија је нау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дистрибуциј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личитих поремећ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ља у популацији 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фактор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оји условљав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 у циљ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њихове превенције и сузбиј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57200"/>
            <a:ext cx="7920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ДЕФИНИЦИЈА И ЗАДАЦИ ЕПИДЕМИ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Cirilica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и подручја истраж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им и величин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е би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е оболел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о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шта је то зајед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 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и погођ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у узрочни фаскто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дит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 спреча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узбиј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рманентно пратити ефикас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алуирати резулта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узетих 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пунити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 Cirilica"/>
              </a:rPr>
              <a:t>Основни циљ епидемиологије</a:t>
            </a:r>
            <a:r>
              <a:rPr b="0" lang="sr-CS" sz="4000" spc="-1" strike="noStrike">
                <a:solidFill>
                  <a:srgbClr val="000000"/>
                </a:solidFill>
                <a:latin typeface="Arial Cirilic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фактор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зрочних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и оних који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већавају ризик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особе да оболи) повезаних са појавом болести тј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идентификација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узрока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 поремећаја</a:t>
            </a: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 здравља (утврђивање узрочне повезаности између чинилаца и обољењ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 Cirilica"/>
              </a:rPr>
              <a:t>Стварање услова за превенирање обољења тј.изналажење и евалуација метода спречавања и сузбијањ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604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Основ за планирање здравствене заштите и креирање здравствене политике ?</a:t>
            </a:r>
            <a:r>
              <a:rPr b="0" lang="sr-C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6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Анализ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учесталости и дистрибуције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ремећаја здравља у попул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Испитивање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иродног тока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ојећих и нових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ревентивн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и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терапијских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поступ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Евалуациј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ефикасности здравствене сл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ОСНОВНА СТРАТЕГИЈА ЕПИДЕМИОЛОГИЈЕ РАДИ ОСТВАРИВАЊА ЦИЉЕВ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очавање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 Cirilica"/>
              </a:rPr>
              <a:t>разлика и сличности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карактеристика поремећаја здравља</a:t>
            </a:r>
            <a:r>
              <a:rPr b="1" lang="en-U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Cirilica"/>
              </a:rPr>
              <a:t>посматраним популацио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1:00:47Z</dcterms:created>
  <dc:creator>User</dc:creator>
  <dc:description/>
  <dc:language>en-US</dc:language>
  <cp:lastModifiedBy> </cp:lastModifiedBy>
  <dcterms:modified xsi:type="dcterms:W3CDTF">2017-01-09T12:13:45Z</dcterms:modified>
  <cp:revision>473</cp:revision>
  <dc:subject/>
  <dc:title>Slide 1</dc:title>
</cp:coreProperties>
</file>