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A21-CC78-4E71-A018-8EC6D6C4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A94-4AA8-4CBA-BF9A-52F4084F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DC5-E7C4-4190-A309-A433686C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9A3-1316-4F0A-87B5-C5CCA3A6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0B37-7CE4-4DA7-A19E-906C3701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EB6E-1E30-4F02-94C6-5A7740C7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48B5-FE35-4FB4-BE6F-A63309CC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6B8B-10EA-4181-8CE1-F94ECDFA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92B5-DF71-4D80-B06A-FC3E4E2A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4E5F-6610-4473-ABDE-00681D9A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FED8-9E25-43F6-B38C-CF2002B8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572-9BE5-4A85-B39C-34F806BD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0C46-53FB-47B3-A517-49ED3754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0CC1-8732-4E94-91F7-E2351283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EEA5-77F4-4C4C-BDBF-C721B5DD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7258-4125-4C2B-8369-B105981F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B85B-0E18-4AA3-90AD-C5A0CD46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215C-0FE3-4471-A987-387EBDDE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4461-A9C5-4150-9FDA-1C3B1874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C64-9AD2-42E1-992B-05D8A5AE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472-7CC9-4C71-AE75-C2E01DD4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D19A-038F-4203-9AF6-B9C75080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958-CE67-4AB2-B731-FBD9896A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131-68C2-4F45-AA83-161E85CE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DC37-639A-4F46-9D65-01380587C2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1052-1B25-4D1A-87C7-29995ABC59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907560"/>
            <a:ext cx="670392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330066"/>
                </a:solidFill>
                <a:latin typeface="Arial Cirilica"/>
              </a:rPr>
              <a:t>Извори података о оболевању и умирању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7543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 Cirilica"/>
              </a:rPr>
              <a:t>Категорије извора података о оболевању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1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2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Регистр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     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-оболел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     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-клицонош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     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-оста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3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Подаци амбулантно поликлиничких   устан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4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Подаци о хоспитализациј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5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Остали изв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677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- 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Циљ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ална контрола епидемиолошке ситуациј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очавање евентуалног пораст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роја оболел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дузимање противепидемијских м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валуација ефикасности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ењених мера сузбиј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 територији РС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авезно се пријављуј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7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олести; са неким изузецим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хинококоз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лепра и сл.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ч је о акутним поремећајим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2150640"/>
            <a:ext cx="856908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 Cirilica"/>
              </a:rPr>
              <a:t>Проценат зависи од</a:t>
            </a:r>
            <a:r>
              <a:rPr b="1" lang="en-US" sz="1900" spc="-1" strike="noStrike">
                <a:solidFill>
                  <a:srgbClr val="000000"/>
                </a:solidFill>
                <a:latin typeface="Arial Cirilic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Развијено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доступно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и коришћења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здравствене служ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Тежине клиничке слик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када је у питању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лако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 оболењ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болесник се и НЕ обраћа лекар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Учестало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атипичних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облик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боле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и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инапарентних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инфек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Диференцијално-дијагностичких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проблем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нпр.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антропозооноз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често промичу 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под другом дијагнозом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Ажурности пријављивањ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итд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2006640"/>
            <a:ext cx="822960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о Међународном здравственом правилнику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све земље</a:t>
            </a:r>
            <a:r>
              <a:rPr b="1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чланице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ЗО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дужне су да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најбржим путем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телексом или факсом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ријаве колеру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кугу и жуту грозницу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(СУМЊА И ПОТВРДА ПОСТИЈА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од надзором СЗО</a:t>
            </a:r>
            <a:r>
              <a:rPr b="1" lang="sr-Latn-CS" sz="2400" spc="-1" strike="noStrike">
                <a:solidFill>
                  <a:srgbClr val="000000"/>
                </a:solidFill>
                <a:latin typeface="Arial Cirilic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егавац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овратна грозница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аралитички полиомијелитис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маларија</a:t>
            </a:r>
            <a:r>
              <a:rPr b="1" lang="sr-Latn-C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грип</a:t>
            </a:r>
            <a:r>
              <a:rPr b="1" lang="sr-Latn-CS" sz="2400" spc="-1" strike="noStrike">
                <a:solidFill>
                  <a:srgbClr val="000000"/>
                </a:solidFill>
                <a:latin typeface="Arial Cirilica"/>
              </a:rPr>
              <a:t> ...</a:t>
            </a:r>
            <a:r>
              <a:rPr b="0" lang="en-US" sz="21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543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2. Регистри?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cc00"/>
                </a:solidFill>
                <a:latin typeface="Times Cirilica"/>
                <a:ea typeface="Arial"/>
              </a:rPr>
              <a:t>►</a:t>
            </a:r>
            <a:r>
              <a:rPr b="0" lang="en-US" sz="3000" spc="-1" strike="noStrike">
                <a:solidFill>
                  <a:srgbClr val="000000"/>
                </a:solidFill>
                <a:latin typeface="Times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главном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ухватају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једине хроничне болести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/или стањ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cc00"/>
                </a:solidFill>
                <a:latin typeface="Times Cirilica"/>
                <a:ea typeface="Arial"/>
              </a:rPr>
              <a:t>►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дстављају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тпунији начин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аћењ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ретања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Регистр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могућавају да с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сваком тренутку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сполаже не само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подацима о инциденциј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ћ и о преваленциј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јању и исходу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ређеног патолошког с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Прецизно сагледа учест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ост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распрострањеност, ток и прог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Регистри оболели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На територији Србије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воде се регистр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за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11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односно група 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психоз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реуматску грозниц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7e9ce8"/>
                </a:solidFill>
                <a:latin typeface="Arial Cirilica"/>
              </a:rPr>
              <a:t>малигна обољењ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7e9ce8"/>
                </a:solidFill>
                <a:latin typeface="Arial Cirilica"/>
              </a:rPr>
              <a:t>шећерну болес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ендемску нефропатиј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прогресивне мишићне дистрофиј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хемофилиј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хроничну инсуфицујенцију бубрег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7e9ce8"/>
                </a:solidFill>
                <a:latin typeface="Arial Cirilica"/>
              </a:rPr>
              <a:t>коронарну болест срц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опструктивну болест плућ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наркоманиј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Регистри клицонош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артотека за лица која су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еболела поједине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олести и/ил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лучују њихове проузроковаче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бољења која могу да доведу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о хроничног клицоноштва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цревне 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–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алмонелозе и шигело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ођење евиденције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осилаца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HBs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нтигена и антите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лучењ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yphi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ratyphi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(позивање на контролне преглед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Остали регистр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Регистри различитих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врста инвалидности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значај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 Cirilica"/>
              </a:rPr>
              <a:t>са социјалне и административне тачке гледиш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 Cirilica"/>
              </a:rPr>
              <a:t>процену епидемиолошке ситуације</a:t>
            </a:r>
            <a:r>
              <a:rPr b="0" lang="en-US" sz="23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 Cirilica"/>
              </a:rPr>
              <a:t>предузимање ме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 Cirilica"/>
              </a:rPr>
              <a:t>Извори података о оболевању и умирањ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330066"/>
                </a:solidFill>
                <a:latin typeface="Arial"/>
                <a:ea typeface="Arial"/>
              </a:rPr>
              <a:t>Услови за мерење </a:t>
            </a:r>
            <a:r>
              <a:rPr b="1" lang="sr-CS" sz="3000" spc="-1" strike="noStrike">
                <a:solidFill>
                  <a:srgbClr val="330066"/>
                </a:solidFill>
                <a:latin typeface="Arial"/>
                <a:ea typeface="Arial"/>
              </a:rPr>
              <a:t>учесталости</a:t>
            </a:r>
            <a:r>
              <a:rPr b="0" lang="sr-CS" sz="3000" spc="-1" strike="noStrike">
                <a:solidFill>
                  <a:srgbClr val="330066"/>
                </a:solidFill>
                <a:latin typeface="Arial"/>
                <a:ea typeface="Arial"/>
              </a:rPr>
              <a:t> болести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Располагање подацима о ПОПУЛАЦИЈИ (СТАНОВНИШТВУ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Располагање подацима о ОБОЛЕЛИМ, односно УМРЛИМ особ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3</a:t>
            </a:r>
            <a:r>
              <a:rPr b="1" lang="en-US" sz="3600" spc="-1" strike="noStrike">
                <a:solidFill>
                  <a:srgbClr val="cccc00"/>
                </a:solidFill>
                <a:latin typeface="Arial Cirilica"/>
              </a:rPr>
              <a:t>.</a:t>
            </a: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 Подаци амбулантно-поликлиничких установ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ољења и стањ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тврђена код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Ехоспитализованих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мбуланте 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испанзери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омови здрављ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 друге здравствене установе</a:t>
            </a: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ебно с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рађују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 објављују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одговарајућим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убликациј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одаци амбулантно-поликлиничких установ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Омогућавају сагледавање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 Cirilica"/>
              </a:rPr>
              <a:t>учесталости</a:t>
            </a: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 и релативне заступљености појединих патолошких стања дијагностикованих у служби опште медицине и у специјалистичким служб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Здравствени радници самостално анализирају податке везане за популацију о чијем се здрављу старај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748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4.</a:t>
            </a:r>
            <a:r>
              <a:rPr b="1" lang="sr-CS" sz="3200" spc="-1" strike="noStrike">
                <a:solidFill>
                  <a:srgbClr val="cccc00"/>
                </a:solidFill>
                <a:latin typeface="Arial Cirilica"/>
              </a:rPr>
              <a:t> </a:t>
            </a: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одаци о хоспитализацији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556000"/>
            <a:ext cx="8362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Arial Cirilica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Значајан извор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орбидитетних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података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 Cirilica"/>
              </a:rPr>
              <a:t>(прецизније сазнање о учесталости и структури појединих поремећаја здравља) због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 Cirilica"/>
              </a:rPr>
              <a:t>квалитета дијагнос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50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cc00"/>
                </a:solidFill>
                <a:latin typeface="Arial Cirilica"/>
              </a:rPr>
              <a:t>Подаци о хоспитализацији</a:t>
            </a:r>
            <a:r>
              <a:rPr b="1" lang="en-US" sz="35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cccc00"/>
                </a:solidFill>
                <a:latin typeface="Arial Cirilica"/>
              </a:rPr>
              <a:t>(о особама леченим у стационарној установи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719000"/>
            <a:ext cx="89647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Ограничења при интерпретацији података</a:t>
            </a:r>
            <a:r>
              <a:rPr b="1" lang="sr-CS" sz="2100" spc="-1" strike="noStrike">
                <a:solidFill>
                  <a:srgbClr val="000000"/>
                </a:solidFill>
                <a:latin typeface="Arial Cirilica"/>
              </a:rPr>
              <a:t>, погрешни закључци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ка обољењ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ече се болничк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век или скоро увек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 нека никад или скоро ника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О карактеристикама</a:t>
            </a:r>
            <a:r>
              <a:rPr b="1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ређене боле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честалости појединих манифестација</a:t>
            </a:r>
            <a:r>
              <a:rPr b="1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ли ризику неповољног исход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ди се само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на основу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хоспиталн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статистик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р се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игноришу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блаж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облици за које постој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ња вероватноћ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 ће захтевати болнички третман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ансе да се буде хоспитализован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словљене су развијеношћу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дравствене служб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 стањем болничких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пацитета а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 оквиру исте териториј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јаднаке су з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азлишите социјалне слојев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3200" spc="-1" strike="noStrike">
                <a:solidFill>
                  <a:srgbClr val="cccc00"/>
                </a:solidFill>
                <a:latin typeface="Arial Cirilica"/>
              </a:rPr>
              <a:t>Подаци о хоспитализацији</a:t>
            </a:r>
            <a:r>
              <a:rPr b="1" lang="en-US" sz="35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cccc00"/>
                </a:solidFill>
                <a:latin typeface="Arial Cirilica"/>
              </a:rPr>
              <a:t>(о особама леченим у стационарној установи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36664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sr-Latn-CS" sz="16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граничења при интерпретацији података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, погрешни закључц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sr-Latn-CS" sz="24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о израчунат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рбидитет на основ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атака 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оспитализациј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j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j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менитењ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арајућ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пулација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оро немогуће установ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cccc00"/>
                </a:solidFill>
                <a:latin typeface="Arial Cirilica"/>
              </a:rPr>
              <a:t>5.Остали извори</a:t>
            </a:r>
            <a:r>
              <a:rPr b="1" lang="en-US" sz="3900" spc="-1" strike="noStrike">
                <a:solidFill>
                  <a:srgbClr val="330066"/>
                </a:solidFill>
                <a:latin typeface="Arial Cirilica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446200"/>
            <a:ext cx="8229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Заводи за здравствено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и пензијско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осигура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Систематски прегледи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појединих категорија попул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900" spc="-1" strike="noStrike">
                <a:solidFill>
                  <a:srgbClr val="cccc00"/>
                </a:solidFill>
                <a:latin typeface="Arial Cirilica"/>
              </a:rPr>
              <a:t> </a:t>
            </a:r>
            <a:r>
              <a:rPr b="1" lang="sr-CS" sz="3900" spc="-1" strike="noStrike">
                <a:solidFill>
                  <a:srgbClr val="cccc00"/>
                </a:solidFill>
                <a:latin typeface="Arial Cirilica"/>
              </a:rPr>
              <a:t>Остали извори</a:t>
            </a:r>
            <a:r>
              <a:rPr b="1" lang="en-US" sz="3900" spc="-1" strike="noStrike">
                <a:solidFill>
                  <a:srgbClr val="330066"/>
                </a:solidFill>
                <a:latin typeface="Arial Cirilica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Анкетирање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презентативног узорк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пул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Циљна теренска испитив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191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 Cirilica"/>
              </a:rPr>
              <a:t>ПОДАЦИ</a:t>
            </a:r>
            <a:r>
              <a:rPr b="1" lang="en-US" sz="36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3600" spc="-1" strike="noStrike">
                <a:solidFill>
                  <a:srgbClr val="330066"/>
                </a:solidFill>
                <a:latin typeface="Arial Cirilica"/>
              </a:rPr>
              <a:t>О ПОПУЛАЦИЈИ </a:t>
            </a:r>
            <a:r>
              <a:rPr b="1" lang="sr-CS" sz="4400" spc="-1" strike="noStrike">
                <a:solidFill>
                  <a:srgbClr val="330066"/>
                </a:solidFill>
                <a:latin typeface="Arial Cirilica"/>
              </a:rPr>
              <a:t>?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3259080"/>
            <a:ext cx="71298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cc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cccc00"/>
                </a:solidFill>
                <a:latin typeface="Arial"/>
              </a:rPr>
              <a:t>ПОПИС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cccc00"/>
                </a:solidFill>
                <a:latin typeface="Arial"/>
              </a:rPr>
              <a:t>Други извори података о попула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30066"/>
                </a:solidFill>
                <a:latin typeface="Arial Cirilica"/>
              </a:rPr>
              <a:t>ПОДАЦИ</a:t>
            </a:r>
            <a:r>
              <a:rPr b="1" lang="en-US" sz="32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330066"/>
                </a:solidFill>
                <a:latin typeface="Arial Cirilica"/>
              </a:rPr>
              <a:t>(ИЗВОРИ ПОДАТАКА)</a:t>
            </a:r>
            <a:r>
              <a:rPr b="1" lang="en-US" sz="32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330066"/>
                </a:solidFill>
                <a:latin typeface="Arial Cirilica"/>
              </a:rPr>
              <a:t>О ПОПУЛАЦИЈИ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- </a:t>
            </a:r>
            <a:r>
              <a:rPr b="1" lang="sr-CS" sz="4200" spc="-1" strike="noStrike">
                <a:solidFill>
                  <a:srgbClr val="cccc00"/>
                </a:solidFill>
                <a:latin typeface="Arial"/>
              </a:rPr>
              <a:t>ПОПИСИ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2295360"/>
            <a:ext cx="8642160" cy="27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ff0000"/>
                </a:solidFill>
                <a:latin typeface="Arial Cirilica"/>
              </a:rPr>
              <a:t>+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</a:rPr>
              <a:t> Пописи становништва</a:t>
            </a:r>
            <a:r>
              <a:rPr b="1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Latn-CS" sz="2500" spc="-1" strike="noStrike">
                <a:solidFill>
                  <a:srgbClr val="000000"/>
                </a:solidFill>
                <a:latin typeface="Arial Cirilica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веобухватан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уздан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ачан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звор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датака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 популацији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зложеној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изику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болевања</a:t>
            </a:r>
            <a:r>
              <a:rPr b="0" lang="sr-Latn-C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(умирања)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00"/>
                </a:solidFill>
                <a:latin typeface="Arial Cirilica"/>
                <a:ea typeface="Arial"/>
              </a:rPr>
              <a:t>       →</a:t>
            </a:r>
            <a:r>
              <a:rPr b="0" lang="sr-Latn-CS" sz="25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целокупној или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00"/>
                </a:solidFill>
                <a:latin typeface="Arial Cirilica"/>
                <a:ea typeface="Arial"/>
              </a:rPr>
              <a:t>       →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јединим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њеним сегментим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cccc00"/>
                </a:solidFill>
                <a:latin typeface="Arial"/>
              </a:rPr>
              <a:t>Други извори података о популацији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□</a:t>
            </a:r>
            <a:r>
              <a:rPr b="0" lang="sr-Latn-C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Подаци месне заједниц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□</a:t>
            </a:r>
            <a:r>
              <a:rPr b="0" lang="sr-Latn-C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Бирачки спискови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Latn-CS" sz="3000" spc="-1" strike="noStrike">
                <a:solidFill>
                  <a:srgbClr val="330066"/>
                </a:solidFill>
                <a:latin typeface="Arial Cirilica"/>
                <a:ea typeface="Arial"/>
              </a:rPr>
              <a:t>→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спитивања везана 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амо за 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пулацију одраслих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□</a:t>
            </a:r>
            <a:r>
              <a:rPr b="0" lang="sr-Latn-C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Списак пореских обвезника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Latn-CS" sz="3000" spc="-1" strike="noStrike">
                <a:solidFill>
                  <a:srgbClr val="330066"/>
                </a:solidFill>
                <a:latin typeface="Arial Cirilica"/>
                <a:ea typeface="Arial"/>
              </a:rPr>
              <a:t>→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јединица 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матрања домаћинств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□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 терену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ad hoc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прикупљени пода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 Cirilica"/>
              </a:rPr>
              <a:t>Категорије извора података о умирању и рађању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1</a:t>
            </a:r>
            <a:r>
              <a:rPr b="1" lang="en-US" sz="3600" spc="-1" strike="noStrike">
                <a:solidFill>
                  <a:srgbClr val="cccc00"/>
                </a:solidFill>
                <a:latin typeface="Arial Cirilica"/>
              </a:rPr>
              <a:t>. </a:t>
            </a: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Извештаји о узроку смр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Arial Cirilica"/>
              </a:rPr>
              <a:t>2. </a:t>
            </a: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одаци матичне служб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cc00"/>
                </a:solidFill>
                <a:uFillTx/>
                <a:latin typeface="Arial Cirilica"/>
              </a:rPr>
              <a:t>1.</a:t>
            </a:r>
            <a:r>
              <a:rPr b="1" lang="sr-CS" sz="3600" spc="-1" strike="noStrike" u="sng">
                <a:solidFill>
                  <a:srgbClr val="cccc00"/>
                </a:solidFill>
                <a:uFillTx/>
                <a:latin typeface="Arial Cirilica"/>
              </a:rPr>
              <a:t>Извештаји о узроку смрти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921440" cy="32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Законска обавеза</a:t>
            </a:r>
            <a:r>
              <a:rPr b="0" lang="en-U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да лекар за умрло лице</a:t>
            </a:r>
            <a:r>
              <a:rPr b="0" lang="en-U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попуни</a:t>
            </a:r>
            <a:r>
              <a:rPr b="0" lang="en-U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извештај</a:t>
            </a:r>
            <a:r>
              <a:rPr b="0" lang="en-U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о узроку смрти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  <a:ea typeface="Arial"/>
              </a:rPr>
              <a:t>→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  <a:ea typeface="Arial"/>
              </a:rPr>
              <a:t>надлежни матичари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  <a:ea typeface="Arial"/>
              </a:rPr>
              <a:t> →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регион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  <a:ea typeface="Arial"/>
              </a:rPr>
              <a:t>→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Републички завод за статистику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700" spc="-1" strike="noStrike">
                <a:solidFill>
                  <a:srgbClr val="ff0000"/>
                </a:solidFill>
                <a:latin typeface="Arial Cirilica"/>
              </a:rPr>
              <a:t>+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 Погодност ослањања на морталитетну статистику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cc00"/>
                </a:solidFill>
                <a:latin typeface="Arial Cirilica"/>
              </a:rPr>
              <a:t>2.</a:t>
            </a:r>
            <a:r>
              <a:rPr b="1" lang="sr-CS" sz="3200" spc="-1" strike="noStrike">
                <a:solidFill>
                  <a:srgbClr val="cccc00"/>
                </a:solidFill>
                <a:latin typeface="Arial Cirilica"/>
              </a:rPr>
              <a:t> </a:t>
            </a:r>
            <a:r>
              <a:rPr b="1" lang="sr-CS" sz="3600" spc="-1" strike="noStrike" u="sng">
                <a:solidFill>
                  <a:srgbClr val="cccc00"/>
                </a:solidFill>
                <a:uFillTx/>
                <a:latin typeface="Arial Cirilica"/>
              </a:rPr>
              <a:t>Подаци матичне службе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 Cirilica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годност ослањања на податке матичне служ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а процену промене броја стано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матрање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пидемиолошке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туације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 ужем подруч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cccc00"/>
                </a:solidFill>
                <a:uFillTx/>
                <a:latin typeface="Arial Cirilica"/>
              </a:rPr>
              <a:t>Подаци матичне службе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 Cirilica"/>
                <a:ea typeface="Arial"/>
              </a:rPr>
              <a:t>Опрезност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(ограничења)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 Cirilica"/>
                <a:ea typeface="Arial"/>
              </a:rPr>
              <a:t> при закључивању на основу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датака матичне службе,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погрешни закључци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sr-CS" sz="2400" spc="-1" strike="noStrike">
                <a:solidFill>
                  <a:srgbClr val="330066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евиденцији се вод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на териториј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длежне матичн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жб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МРЛ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лиц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 обзир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мест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иховог сталног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равк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400" spc="-1" strike="noStrike">
                <a:solidFill>
                  <a:srgbClr val="cccc00"/>
                </a:solidFill>
                <a:latin typeface="Arial Cirilica"/>
                <a:ea typeface="Arial"/>
              </a:rPr>
              <a:t>→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рне тачке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гистралних путев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ста са великим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ојем несрећа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, привидно високе стопе морталите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тељ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мрл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ao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рођен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ва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одручј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oj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пада под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длежност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арајућ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тичне служб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евидентирај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њига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sr-Latn-CS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330066"/>
                </a:solidFill>
                <a:latin typeface="Arial"/>
                <a:ea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одаци су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СКУДНИ</a:t>
            </a:r>
            <a:r>
              <a:rPr b="0" lang="sr-CS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је реч 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мирањ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суство дијагноз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могућуј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чунавањ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амо општих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и не и по узрок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фичних стопа мортал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00:34Z</dcterms:created>
  <dc:creator>User</dc:creator>
  <dc:description/>
  <dc:language>en-US</dc:language>
  <cp:lastModifiedBy> </cp:lastModifiedBy>
  <dcterms:modified xsi:type="dcterms:W3CDTF">2016-12-30T09:15:19Z</dcterms:modified>
  <cp:revision>214</cp:revision>
  <dc:subject/>
  <dc:title>Slide 1</dc:title>
</cp:coreProperties>
</file>